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5.png" ContentType="image/png"/>
  <Override PartName="/ppt/media/image59.pct" ContentType="image/x-pict"/>
  <Override PartName="/ppt/media/image44.png" ContentType="image/png"/>
  <Override PartName="/ppt/media/image46.png" ContentType="image/png"/>
  <Override PartName="/ppt/media/image43.pct" ContentType="image/x-pict"/>
  <Override PartName="/ppt/media/image42.png" ContentType="image/png"/>
  <Override PartName="/ppt/media/image56.pct" ContentType="image/x-pict"/>
  <Override PartName="/ppt/media/image41.png" ContentType="image/png"/>
  <Override PartName="/ppt/media/image40.pct" ContentType="image/x-pict"/>
  <Override PartName="/ppt/media/image38.pct" ContentType="image/x-pict"/>
  <Override PartName="/ppt/media/image24.png" ContentType="image/png"/>
  <Override PartName="/ppt/media/image39.png" ContentType="image/png"/>
  <Override PartName="/ppt/media/image36.pct" ContentType="image/x-pict"/>
  <Override PartName="/ppt/media/image22.png" ContentType="image/png"/>
  <Override PartName="/ppt/media/image30.png" ContentType="image/png"/>
  <Override PartName="/ppt/media/image9.pct" ContentType="image/x-pict"/>
  <Override PartName="/ppt/media/image72.png" ContentType="image/png"/>
  <Override PartName="/ppt/media/image48.png" ContentType="image/png"/>
  <Override PartName="/ppt/media/image11.png" ContentType="image/png"/>
  <Override PartName="/ppt/media/image13.png" ContentType="image/png"/>
  <Override PartName="/ppt/media/image1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21.png" ContentType="image/png"/>
  <Override PartName="/ppt/media/image58.png" ContentType="image/png"/>
  <Override PartName="/ppt/media/image60.pct" ContentType="image/x-pict"/>
  <Override PartName="/ppt/media/image63.png" ContentType="image/png"/>
  <Override PartName="/ppt/media/image62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57.pct" ContentType="image/x-pict"/>
  <Override PartName="/ppt/media/image23.png" ContentType="image/png"/>
  <Override PartName="/ppt/media/image69.png" ContentType="image/png"/>
  <Override PartName="/ppt/media/image2.png" ContentType="image/png"/>
  <Override PartName="/ppt/media/image32.png" ContentType="image/png"/>
  <Override PartName="/ppt/media/image71.png" ContentType="image/png"/>
  <Override PartName="/ppt/media/image73.png" ContentType="image/png"/>
  <Override PartName="/ppt/media/image61.png" ContentType="image/png"/>
  <Override PartName="/ppt/media/image16.pct" ContentType="image/x-pict"/>
  <Override PartName="/ppt/media/image96.png" ContentType="image/png"/>
  <Override PartName="/ppt/media/image14.pct" ContentType="image/x-pict"/>
  <Override PartName="/ppt/media/image95.png" ContentType="image/png"/>
  <Override PartName="/ppt/media/image94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86.png" ContentType="image/png"/>
  <Override PartName="/ppt/media/image74.png" ContentType="image/png"/>
  <Override PartName="/ppt/media/image79.png" ContentType="image/png"/>
  <Override PartName="/ppt/media/image78.png" ContentType="image/png"/>
  <Override PartName="/ppt/media/image20.png" ContentType="image/png"/>
  <Override PartName="/ppt/media/image90.png" ContentType="image/png"/>
  <Override PartName="/ppt/media/image25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29.jpeg" ContentType="image/jpeg"/>
  <Override PartName="/ppt/media/image28.png" ContentType="image/png"/>
  <Override PartName="/ppt/media/image93.png" ContentType="image/png"/>
  <Override PartName="/ppt/media/image17.png" ContentType="image/png"/>
  <Override PartName="/ppt/media/image82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6.png" ContentType="image/png"/>
  <Override PartName="/ppt/media/image18.png" ContentType="image/png"/>
  <Override PartName="/ppt/media/image83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ja-JP" sz="12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9823-654D-43B5-B3E0-99E82F8B1EBB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for pream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documentclass{article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usepackage{amsmath,amssymb,amsthm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usepackage{times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\usepackage{color}%don't need for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The next line is important. Do not de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pagestyle{empty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textwidth =4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parskip = 0.1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parindent = 0.0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newtheorem*{theorem}{Theorem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newtheorem*{lemma}{Lemma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newtheorem*{problem}{Problem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def\sn{\mathrm{sn}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def\cn{\mathrm{cn}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def\dn{\mathrm{dn}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def\cN{\color[named]{Red}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def\cM{\color[named]{Green}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sum_i f_i=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;\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dL}{dt}=\sum_i q_i \wedge f_i=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vector from each bo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 at a point $C_f$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ntre of fo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chiaparelli, Wintn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^2+ y^2)^2 = x^2 - y^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alpha =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beta =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eograp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Lemnis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left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\sn(t)}{1+\cn^{2}(t)}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\sn(t)\cn(t)}{1+\cn^{2}(t)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r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text{ with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^2=\frac{2+\sqrt{3}}{4}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left\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begin{split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_1(t)&amp;=q(t),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_2(t)&amp;=q(t+T/3),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_3(t)&amp;=q(t+2T/3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end{split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isfies the equation of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displaystyle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ddot{q}_{i}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\frac{\partial}{\partial q_{i}} 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\displaystyle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=\sum_{i&lt;j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left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1}{2}\ln r_{ij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\frac{\sqrt{3}}{24}r_{ij}^{2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righ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-Eight solution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V_\alpha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lushle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erical evidence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re: Exist for $\alpha &lt; 2$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GMS: Exist for $\alpha &lt; 0$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ta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alpha = -1 \pm \epsilon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\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_\alpha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begin{cases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alpha^{-1}\;r^\alpha &amp;\text{ for } \alpha\ne 0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log r &amp;\text{ for } \alpha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end{cases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-eight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alpha=-2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displaystyle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=\sum_i q_i^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mbox{const.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\begin{eqnarray*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&amp;&amp;\sum_i m_i q_i=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\;\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M=\sum_i m_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\;\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=\sum_{i}m_iq_{i}^2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&amp;&amp;K=\sum_{i}\dot{q}_{i}^2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\;\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V_{\alpha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=\frac{1}{\alpha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\sum_{i&lt;j}m_i m_j r_{ij}^{\alpha}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\;\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H=\frac{1}{2}K+V_\alph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&amp;&amp;\Right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{\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\frac{d^{2}I}{dt^2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=2K-2\alpha V_{\alpha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=4E-2(2+\alpha)V_{\alpha}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\end{eqnarray*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\begin{eqnarray*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&amp;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{\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\mbox{For } \alpha = -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\;\;\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\frac{d^{2}I}{dt^2}=4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\;\Rightarrow\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I=2Et^2+c_1 t + c_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&amp;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\;\;\;\;\;\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\there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\mbox{If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I \nrightarrow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\mbox{ and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I \nrightarrow \inf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\mbox{ then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E=0, \; c_1=0,\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I=\text{const.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\end{eqnarray*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begin{theorem}[Three Normal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sum_i p_i=0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sum_i q_i \cdot p_i=0$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normals meet at a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end{theorem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begin{proof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$C_n$ be the crossing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wo normals $n_1$ and $n_2$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sum_i (q_i-C_n)\cdot p_i=0$,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(q_1-C_n)\cdot p_1=0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(q_2-C_n)\cdot p_2=0$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therefore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(q_3-C_n)\cdot p_3=0$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end{proof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heorem holds for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m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m_i$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C_n$: the ``Center of Normals’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_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begin{theorem}[CircumCircl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sum_i p_i=0$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sum_i q_i \wedge p_i=0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sum_i q_i \cdot p_i=0$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C_t$ and $C_n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end poi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 diame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circumcir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tri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q_1 q_2 q_3$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end{theorem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begin{proof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C_t q_i C_n$ are 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 degrees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i=1,2,3$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end{proof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heorem holds for any masses $m_i$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text{Figure-eight}\Rightarrow L=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;\;\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=\frac{1}{r^2}\Rightarrow I=\text{const.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i=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_i^{\prime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frac{q_i}{\sqrt{I}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_k^{\prime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frac{p_i-p_j}{\sqrt{3K}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,j,k)=(1,2,3),(2,3,1),(3,1,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begin{theorem}[Similar Triangle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sum_i p_i=0$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sum_i q_i \wedge p_i=0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sum_i q_i \cdot p_i=0$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se vetices are $q_i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ri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se perimeters are $p_i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similar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reverse orien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end{theorem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begin{proof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s yellow colored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ed colored.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obvio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end{proof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noin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\bf Remark: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\em This theorem holds for any masses $m_i$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displaystyle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kappa 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frac{|p_k|}{|q_i-q_j|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sqrt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m_1 m_2 m_3 K}{MI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displaystyle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\kappa (t)^2}{m_1 m_2 m_3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frac{p_k^2/m_k}{m_i m_j (q_i-q_j)^2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frac{K}{MI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displaystyle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kappa 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frac{|p_1|}{|q_2-q_3|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frac{|p_2|}{|q_3-q_1|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frac{|p_3|}{|q_1-q_2|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sqrt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m_1 m_2 m_3 K}{MI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displaystyle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\kappa (t)^2}{m_1 m_2 m_3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frac{p_1^2/m_1}{m_2 m_3 (q_2-q_3)^2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frac{p_2^2/m_2}{m_3 m_1 (q_3-q_1)^2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frac{p_3^2/m_3}{m_1 m_2 (q_1-q_2)^2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frac{K}{MI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begin{eqnarray*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_1 \wedge p_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=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k^2 (q_2-q_1)\wedge (q_3-q_1)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=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\frac{K}{MI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1 m_2 m_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q_1 \wedge q_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_2 \wedge q_3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_3 \wedge q_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=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\frac{K}{I} m_1 m_2 q_1 \wedge q_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end{eqnarray*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because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sum_i m_i q_i=0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Rightarrow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m_1 m_2 q_1 \wedge q_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m_2 m_3 q_2 \wedge q_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m_3 m_1 q_3 \wedge q_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\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q_i \wedge q_j}{I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v_i \wedge v_j}{K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displaystyle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\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m_k |v_k|}{|q_i-q_j|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sqrt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m_1 m_2 m_3 K}{MI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Right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m_i m_j (q_i-q_j)^2}{MI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frac{m_k v_k^2}{K}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the dual relation (identity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$\sum_i m_i \eta_i =0$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begin{eqnarray*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&amp;m_i m_j (\eta_i-\eta_j)^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m_k \eta_k^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(m_i+m_j)\sum_\ell m_\ell \eta_\ell^2.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\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mbox{Vertexes } \Leftrightarrow \mbox{ Perimeters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end{eqnarray*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ge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displaystyle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m_k q_k^2}{I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frac{m_i m_j (v_i-v_j)^2}{MK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Right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\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m_k |q_k|}{|v_i -v_j|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sqrt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m_1 m_2 m_3 I}{MK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m_k q_k^2}{I}+\frac{m_k v_k^2}{K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frac{m_i m_j (q_i-q_j)^2}{M I}+\frac{m_i m_j (v_i-v_j)^2}{M K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frac{m_i+m_j}{M}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d^2 I}{dt^2}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Right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sum_k \frac{p_k^2}{m_k}=\sum_{i&lt;j} m_i m_j r_{ij}^{\alpha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dI}{dt}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Right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p_k^2}{r_{ij}^2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frac{m_1 m_2 m_3 K}{MI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d^2 I}{dt^2}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Right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=\sum_{i&lt;j} \frac{m_i m_j}{ r_{ij}^{2}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0,\;\; \frac{d I}{dt}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Right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1}{r_{ij}^2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frac{m_1m_2m_3 K}{M I}\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1}{p_k^2}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there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=\frac{m_1m_2m_3 K}{M I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left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m_1m_2}{p_3^2}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m_2m_3}{p_1^2}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m_3m_1}{p_2^2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r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\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there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m_1m_2}{p_3^2}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m_2m_3}{p_1^2}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m_3m_1}{p_2^2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frac{M I}{m_1m_2m_3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text{const.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begin{eqnarray*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d^2 I}{dt^2}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Right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&amp;{\cN K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sum_k \frac{p_k^2}{m_k}=\sum_{i&lt;j} m_i m_j,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&amp;{\cN V_0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sum_{i&lt;j}m_i m_j \log r_{ij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E-\frac{1}{2}\sum_{i&lt;j} m_i m_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end{eqnarray*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there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0,\;\; \frac{d I}{dt}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Right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\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sum_{ijk} m_i m_j \log |p_k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E + \frac{1}{2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m_1m_2m_3K}{MI}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$\alpha \ne 0, -2$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d^2 I}{dt^2}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Right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\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sum_k \frac{p_k^2}{m_k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sum_{i&lt;j} m_i m_j r_{ij}^{\alpha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frac{\alpha E}{2+\alpha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0,\;\; \frac{d I}{dt}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Right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\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sum_{ijk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i m_j |p_k|^\alp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left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m_1m_2m_3K}{M I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right)^{\frac{\alpha}{2}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text{const.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Rightarrow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\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ptional proof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``Chenciner's Problem''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``No figure-eight with $I=\text{const.}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pt for $\alpha=-2$''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L=\sum_i m_i q_i \wedge v_i=0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$\frac{dI}{dt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sum_i m_i q_i \cdot v_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ne 0$ orbi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\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xi_i = \frac{q_i}{\sqrt{I}}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eta_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d \xi_i}{dt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v_i}{\sqrt{I}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1}{2I}\frac{dI}{dt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q_i}{\sqrt{I}}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\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mu_i = m_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we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sum_i \mu_i \xi_i =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sum_i \mu_i \eta_i =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sum_i \mu_i \xi_i \wedge \eta_i=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sum_i \mu_i \xi_i \cdot \eta_i=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therefore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 who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\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exe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displaystyle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xi_i = \frac{q_i}{\sqrt{I}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 who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\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displaystyle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mu_i \eta_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mu_i \frac{d\xi_i}{dt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alway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ly simil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nchronised Similar Triang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i=1,2,3$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xi_i, \eta_i \in \mathbb{R}^2$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mu_i &gt; 0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\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sum_i \mu_i \xi_i =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sum_i \mu_i \eta_i =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sum_i \mu_i \xi_i \wedge \eta_i=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sum_i \mu_i \xi_i \cdot \eta_i=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M=\sum_i \mu_i$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I(\xi)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sum_i \mu_i \xi_i^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M^{-1}\sum_{i&lt;j}\mu_i \mu_j (\xi_i -\xi_j)^2$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\mu_k \xi_k^2}{I(\xi)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frac{\mu_i \mu_j (\eta_i -\eta_j)^2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M I(\eta)}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;\;\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\mu_k \eta_k^2}{I(\eta)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frac{\mu_i \mu_j (\xi_i -\xi_j)^2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M I(\xi)}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\mu_k \xi_k^2}{I(\xi)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\mu_k \eta_k^2}{I(\eta)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\mu_i \mu_j (\xi_i -\xi_j)^2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M I(\xi)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\mu_i \mu_j (\eta_i -\eta_j)^2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M I(\eta)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\mu_i+\mu_j}{M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\xi_i \wedge \xi_j}{I(\xi)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\eta_i \wedge \eta_j}{I(\eta)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we 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\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\xi_i \wedge \xi_j}{I(\xi)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\eta_i \wedge \eta_j}{I(\eta)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xi_i = \frac{q_i}{\sqrt{I}}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eta_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d \xi_i}{dt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v_i}{\sqrt{I}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1}{2I}\frac{dI}{dt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q_i}{\sqrt{I}}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\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q_i \wedge q_j}{I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v_i \wedge v_j}{K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1}{2 I K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dI}{dt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d}{dt}(q_i \wedge q_j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=\sum_i m_i q_i^2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=\sum_i m_i v_i^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\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Del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frac{1}{2}(q_2-q_1)\wedge(q_3-q_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sum_{i&lt;j} (q_i \wedge q_j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d^2}{dt^2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q_i \wedge q_j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d^2 q_i}{dt^2}\wedge q_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_i \wedge \frac{d^2 q_j}{dt^2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v_i \wedge v_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=============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_i \wedge v_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\frac{K}{I}(q_i \wedge q_j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\frac{1}{2I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dI}{dt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d}{dt}(q_i \wedge q_j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begin{proof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\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(t)=\frac{\Delta(t)}{\sqrt{I(t)}}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begin{eqnarray*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\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d^2 S}{dt^2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=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left\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sum_{i&lt;j}(m_i+m_j)r_{ij}^{\alpha-2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2K}{I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1}{2I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d^2 I}{dt^2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3}{4I^2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left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dI}{dt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right)^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right\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{\cN =}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\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\omega^2 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end{eqnarray*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\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omega^2 \ge \omega_0^2&gt;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mbox{ where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omega_0^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left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{\small{min}}^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I_{\small{max}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right)^{(2-\alpha)/2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\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mbox{ for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alpha \le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]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end{proof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begin{eqnarray*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m_i m_j (q_i-q_j)^2}{M I} &amp;=&amp; \frac{m_k v_k^2}K,\;\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m_k q_k^2}{I}=\frac{m_i m_j (v_i -v_j)^2}{M K},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m_k q_k^2}{I}+\frac{m_k v_k^2}{K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=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m_i m_j (q_i-q_j)^2}{M I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\frac{m_i m_j (v_i -v_j)^2}{M K}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=&amp;\frac{m_i + m_j}{M},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q_i \wedge q_j}{I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+&amp; \frac{v_i \wedge v_j}{K}=0,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sum_{ijk}m_i m_j |p_k|^\alpha&amp;=&amp;\text{const.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end{eqnarray*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i=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_i^{\prime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frac{q_i}{\sqrt{I}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_k^{\prime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frac{p_i-p_j}{\sqrt{3K}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,j,k)=(1,2,3),(2,3,1),(3,1,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sum_i \frac{1}{p_i^2}=3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the synchronised similar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xi_i = \frac{q_i}{\sqrt{I}}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eta_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d \xi_i}{dt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v_i}{\sqrt{I}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1}{2I}\frac{dI}{dt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q_i}{\sqrt{I}}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we 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q_i \wedge q_j}{I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v_i \wedge v_j}{K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1}{2 I K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dI}{dt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d}{dt}(q_i \wedge q_j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d}{dt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left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1}{I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d\Delta}{dt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r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\left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2K}{I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sum_{i&lt;j} (m_i + m_j)r_{ij}^{\alpha-2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r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Del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gave a short proof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Delta(t)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infinitely many ze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$\alpha \le 2$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i=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_i^{\prime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frac{q_i}{\sqrt{I}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_k^{\prime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frac{p_i-p_j}{\sqrt{3K}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,j,k)=(1,2,3),(2,3,1),(3,1,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sum_i \frac{1}{p_i^2}=3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=1,2,3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i=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displaystyle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ddot{q}_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sum_{j \ne i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q_j-q_i}{|q_j-q_i|^3}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displaystyle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begin{cases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_1(t)&amp;=q(t),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_2(t)&amp;=q(t+T/3),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_3(t)&amp;=q(t+2T/3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end{cases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displaystyle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sum_i q_i =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\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\sum_i q_i  \wedge \dot{q}_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L=0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$L=0$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1=1.0, m_2=1.1, m_3=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heorem holds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eneral masses $m_i$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begin{theorem}[Three Tangent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sum_i p_i=0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sum_i q_i \wedge p_i=0$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tangents meet at a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end{theorem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C_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begin{proof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$C_t$ be the crossing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wo tangent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p_1$ and $p_2$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end{proof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there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q_1-C_t)\wedge p_1=0$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(q_2-C_t)\wedge p_2=0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text{On the other hand,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sum_i p_i=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sum_i q_i \wedge p_i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Right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sum_i (q_i-C_t)\wedge p_i=0$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there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q_3-C_t)\wedge p_3=0$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======================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begin{proof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$C_t$ be the crossing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wo tangent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p_1$ and $p_2$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sum_i  p_i=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sum_i q_i \wedge p_i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Right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sum_i (q_i-C_t)\wedge p_i=0$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there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q_1-C_t)\wedge p_1=0$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(q_2-C_t)\wedge p_2=0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(q_3-C_t)\wedge p_3=0$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end{proof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09.xml"/><Relationship Id="rId12" Type="http://schemas.openxmlformats.org/officeDocument/2006/relationships/slideLayout" Target="../slideLayouts/slideLayout110.xml"/><Relationship Id="rId13" Type="http://schemas.openxmlformats.org/officeDocument/2006/relationships/slideLayout" Target="../slideLayouts/slideLayout111.xml"/><Relationship Id="rId14" Type="http://schemas.openxmlformats.org/officeDocument/2006/relationships/slideLayout" Target="../slideLayouts/slideLayout112.xml"/><Relationship Id="rId15" Type="http://schemas.openxmlformats.org/officeDocument/2006/relationships/slideLayout" Target="../slideLayouts/slideLayout113.xml"/><Relationship Id="rId16" Type="http://schemas.openxmlformats.org/officeDocument/2006/relationships/slideLayout" Target="../slideLayouts/slideLayout114.xml"/><Relationship Id="rId17" Type="http://schemas.openxmlformats.org/officeDocument/2006/relationships/slideLayout" Target="../slideLayouts/slideLayout115.xml"/><Relationship Id="rId18" Type="http://schemas.openxmlformats.org/officeDocument/2006/relationships/slideLayout" Target="../slideLayouts/slideLayout116.xml"/><Relationship Id="rId19" Type="http://schemas.openxmlformats.org/officeDocument/2006/relationships/slideLayout" Target="../slideLayouts/slideLayout117.xml"/><Relationship Id="rId20" Type="http://schemas.openxmlformats.org/officeDocument/2006/relationships/slideLayout" Target="../slideLayouts/slideLayout118.xml"/><Relationship Id="rId21" Type="http://schemas.openxmlformats.org/officeDocument/2006/relationships/slideLayout" Target="../slideLayouts/slideLayout119.xml"/><Relationship Id="rId22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21.xml"/><Relationship Id="rId12" Type="http://schemas.openxmlformats.org/officeDocument/2006/relationships/slideLayout" Target="../slideLayouts/slideLayout122.xml"/><Relationship Id="rId13" Type="http://schemas.openxmlformats.org/officeDocument/2006/relationships/slideLayout" Target="../slideLayouts/slideLayout123.xml"/><Relationship Id="rId14" Type="http://schemas.openxmlformats.org/officeDocument/2006/relationships/slideLayout" Target="../slideLayouts/slideLayout124.xml"/><Relationship Id="rId15" Type="http://schemas.openxmlformats.org/officeDocument/2006/relationships/slideLayout" Target="../slideLayouts/slideLayout125.xml"/><Relationship Id="rId16" Type="http://schemas.openxmlformats.org/officeDocument/2006/relationships/slideLayout" Target="../slideLayouts/slideLayout126.xml"/><Relationship Id="rId17" Type="http://schemas.openxmlformats.org/officeDocument/2006/relationships/slideLayout" Target="../slideLayouts/slideLayout127.xml"/><Relationship Id="rId18" Type="http://schemas.openxmlformats.org/officeDocument/2006/relationships/slideLayout" Target="../slideLayouts/slideLayout128.xml"/><Relationship Id="rId19" Type="http://schemas.openxmlformats.org/officeDocument/2006/relationships/slideLayout" Target="../slideLayouts/slideLayout129.xml"/><Relationship Id="rId20" Type="http://schemas.openxmlformats.org/officeDocument/2006/relationships/slideLayout" Target="../slideLayouts/slideLayout130.xml"/><Relationship Id="rId21" Type="http://schemas.openxmlformats.org/officeDocument/2006/relationships/slideLayout" Target="../slideLayouts/slideLayout131.xml"/><Relationship Id="rId22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97.xml"/><Relationship Id="rId12" Type="http://schemas.openxmlformats.org/officeDocument/2006/relationships/slideLayout" Target="../slideLayouts/slideLayout98.xml"/><Relationship Id="rId13" Type="http://schemas.openxmlformats.org/officeDocument/2006/relationships/slideLayout" Target="../slideLayouts/slideLayout99.xml"/><Relationship Id="rId14" Type="http://schemas.openxmlformats.org/officeDocument/2006/relationships/slideLayout" Target="../slideLayouts/slideLayout100.xml"/><Relationship Id="rId15" Type="http://schemas.openxmlformats.org/officeDocument/2006/relationships/slideLayout" Target="../slideLayouts/slideLayout101.xml"/><Relationship Id="rId16" Type="http://schemas.openxmlformats.org/officeDocument/2006/relationships/slideLayout" Target="../slideLayouts/slideLayout102.xml"/><Relationship Id="rId17" Type="http://schemas.openxmlformats.org/officeDocument/2006/relationships/slideLayout" Target="../slideLayouts/slideLayout103.xml"/><Relationship Id="rId18" Type="http://schemas.openxmlformats.org/officeDocument/2006/relationships/slideLayout" Target="../slideLayouts/slideLayout104.xml"/><Relationship Id="rId19" Type="http://schemas.openxmlformats.org/officeDocument/2006/relationships/slideLayout" Target="../slideLayouts/slideLayout105.xml"/><Relationship Id="rId20" Type="http://schemas.openxmlformats.org/officeDocument/2006/relationships/slideLayout" Target="../slideLayouts/slideLayout106.xml"/><Relationship Id="rId21" Type="http://schemas.openxmlformats.org/officeDocument/2006/relationships/slideLayout" Target="../slideLayouts/slideLayout107.xml"/><Relationship Id="rId22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2680" y="88560"/>
            <a:ext cx="92840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9880" y="4025520"/>
            <a:ext cx="8826840" cy="18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15840" indent="0" algn="ct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5840" algn="ctr">
              <a:spcAft>
                <a:spcPts val="2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5840" algn="ctr">
              <a:spcAft>
                <a:spcPts val="2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" algn="ctr">
              <a:spcAft>
                <a:spcPts val="2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840" algn="ctr">
              <a:spcAft>
                <a:spcPts val="2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840" algn="ctr">
              <a:spcAft>
                <a:spcPts val="2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840" algn="ctr">
              <a:spcAft>
                <a:spcPts val="2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3581280"/>
            <a:ext cx="9715680" cy="381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4360" y="2070000"/>
            <a:ext cx="396252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72000"/>
          </a:bodyPr>
          <a:p>
            <a:pPr marL="374760" indent="-282960">
              <a:spcAft>
                <a:spcPts val="29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83320">
              <a:spcAft>
                <a:spcPts val="29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9920" indent="-283320">
              <a:spcAft>
                <a:spcPts val="29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35680" indent="-283320">
              <a:spcAft>
                <a:spcPts val="2999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82720" indent="-282960">
              <a:spcAft>
                <a:spcPts val="2999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82720" indent="-282960">
              <a:spcAft>
                <a:spcPts val="2999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82720" indent="-282960">
              <a:spcAft>
                <a:spcPts val="2999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0"/>
          <a:stretch/>
        </p:blipFill>
        <p:spPr>
          <a:xfrm>
            <a:off x="0" y="1486080"/>
            <a:ext cx="971568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1"/>
    <p:sldLayoutId id="2147483767" r:id="rId12"/>
    <p:sldLayoutId id="2147483768" r:id="rId13"/>
    <p:sldLayoutId id="2147483769" r:id="rId14"/>
    <p:sldLayoutId id="2147483770" r:id="rId15"/>
    <p:sldLayoutId id="2147483771" r:id="rId16"/>
    <p:sldLayoutId id="2147483772" r:id="rId17"/>
    <p:sldLayoutId id="2147483773" r:id="rId18"/>
    <p:sldLayoutId id="2147483774" r:id="rId19"/>
    <p:sldLayoutId id="2147483775" r:id="rId20"/>
    <p:sldLayoutId id="2147483776" r:id="rId21"/>
    <p:sldLayoutId id="2147483777" r:id="rId22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159240" y="2070000"/>
            <a:ext cx="321300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63000"/>
          </a:bodyPr>
          <a:p>
            <a:pPr marL="327600" indent="-247680">
              <a:spcAft>
                <a:spcPts val="29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48040">
              <a:spcAft>
                <a:spcPts val="29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36000" indent="-248040">
              <a:spcAft>
                <a:spcPts val="29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6040" indent="-248040">
              <a:spcAft>
                <a:spcPts val="2999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59880" indent="-247680">
              <a:spcAft>
                <a:spcPts val="2999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59880" indent="-247680">
              <a:spcAft>
                <a:spcPts val="2999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59880" indent="-247680">
              <a:spcAft>
                <a:spcPts val="2999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0"/>
          <a:stretch/>
        </p:blipFill>
        <p:spPr>
          <a:xfrm>
            <a:off x="0" y="1486080"/>
            <a:ext cx="971568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1"/>
    <p:sldLayoutId id="2147483780" r:id="rId12"/>
    <p:sldLayoutId id="2147483781" r:id="rId13"/>
    <p:sldLayoutId id="2147483782" r:id="rId14"/>
    <p:sldLayoutId id="2147483783" r:id="rId15"/>
    <p:sldLayoutId id="2147483784" r:id="rId16"/>
    <p:sldLayoutId id="2147483785" r:id="rId17"/>
    <p:sldLayoutId id="2147483786" r:id="rId18"/>
    <p:sldLayoutId id="2147483787" r:id="rId19"/>
    <p:sldLayoutId id="2147483788" r:id="rId20"/>
    <p:sldLayoutId id="2147483789" r:id="rId21"/>
    <p:sldLayoutId id="214748379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4360" y="165240"/>
            <a:ext cx="8597880" cy="11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74360" y="2070000"/>
            <a:ext cx="859788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571680" indent="-444600">
              <a:spcAft>
                <a:spcPts val="17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1480" indent="-444600">
              <a:spcAft>
                <a:spcPts val="17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536840" indent="-444600">
              <a:spcAft>
                <a:spcPts val="17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2044800" indent="-444600">
              <a:spcAft>
                <a:spcPts val="17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527200" indent="-444240">
              <a:spcAft>
                <a:spcPts val="17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527200" indent="-444240">
              <a:spcAft>
                <a:spcPts val="17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527200" indent="-444240">
              <a:spcAft>
                <a:spcPts val="17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" descr=""/>
          <p:cNvPicPr/>
          <p:nvPr/>
        </p:nvPicPr>
        <p:blipFill>
          <a:blip r:embed="rId9"/>
          <a:stretch/>
        </p:blipFill>
        <p:spPr>
          <a:xfrm>
            <a:off x="0" y="1486080"/>
            <a:ext cx="971568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774360" y="761760"/>
            <a:ext cx="85978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571680" indent="-444600">
              <a:spcAft>
                <a:spcPts val="36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1480" indent="-444600">
              <a:spcAft>
                <a:spcPts val="36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536840" indent="-444600">
              <a:spcAft>
                <a:spcPts val="36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2044800" indent="-444600">
              <a:spcAft>
                <a:spcPts val="36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527200" indent="-444240">
              <a:spcAft>
                <a:spcPts val="3699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527200" indent="-444240">
              <a:spcAft>
                <a:spcPts val="3699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527200" indent="-444240">
              <a:spcAft>
                <a:spcPts val="3699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485640" indent="-377640">
              <a:spcAft>
                <a:spcPts val="17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85240" indent="-377640">
              <a:spcAft>
                <a:spcPts val="1701"/>
              </a:spcAft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6080" indent="-377640">
              <a:spcAft>
                <a:spcPts val="1701"/>
              </a:spcAft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38080" indent="-377640">
              <a:spcAft>
                <a:spcPts val="1701"/>
              </a:spcAft>
              <a:buSzPct val="100000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148120" indent="-377280">
              <a:spcAft>
                <a:spcPts val="1701"/>
              </a:spcAft>
              <a:buSzPct val="100000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148120" indent="-377280"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148120" indent="-377280"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0" y="1486080"/>
            <a:ext cx="971568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59880" y="1193760"/>
            <a:ext cx="882684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0" y="3581280"/>
            <a:ext cx="9715680" cy="381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8a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5360" y="5892480"/>
            <a:ext cx="916920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8a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7960" y="1574640"/>
            <a:ext cx="464832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507960" y="4025520"/>
            <a:ext cx="4648320" cy="18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4040" indent="0" algn="ct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040" algn="ctr">
              <a:spcAft>
                <a:spcPts val="201"/>
              </a:spcAft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040" algn="ctr">
              <a:spcAft>
                <a:spcPts val="201"/>
              </a:spcAft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40" algn="ctr">
              <a:spcAft>
                <a:spcPts val="201"/>
              </a:spcAft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4040" algn="ctr">
              <a:spcAft>
                <a:spcPts val="201"/>
              </a:spcAft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4040" algn="ctr">
              <a:spcAft>
                <a:spcPts val="201"/>
              </a:spcAft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4040" algn="ctr">
              <a:spcAft>
                <a:spcPts val="201"/>
              </a:spcAft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 flipH="1" rot="10800600">
            <a:off x="-2234880" y="3657600"/>
            <a:ext cx="7531200" cy="355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8a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74360" y="2070000"/>
            <a:ext cx="396252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72000"/>
          </a:bodyPr>
          <a:p>
            <a:pPr marL="374760" indent="-282960">
              <a:spcAft>
                <a:spcPts val="29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83320">
              <a:spcAft>
                <a:spcPts val="29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9920" indent="-283320">
              <a:spcAft>
                <a:spcPts val="29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35680" indent="-283320">
              <a:spcAft>
                <a:spcPts val="2999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82720" indent="-282960">
              <a:spcAft>
                <a:spcPts val="2999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82720" indent="-282960">
              <a:spcAft>
                <a:spcPts val="2999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82720" indent="-282960">
              <a:spcAft>
                <a:spcPts val="2999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0"/>
          <a:stretch/>
        </p:blipFill>
        <p:spPr>
          <a:xfrm>
            <a:off x="0" y="1486080"/>
            <a:ext cx="971568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1"/>
    <p:sldLayoutId id="2147483754" r:id="rId12"/>
    <p:sldLayoutId id="2147483755" r:id="rId13"/>
    <p:sldLayoutId id="2147483756" r:id="rId14"/>
    <p:sldLayoutId id="2147483757" r:id="rId15"/>
    <p:sldLayoutId id="2147483758" r:id="rId16"/>
    <p:sldLayoutId id="2147483759" r:id="rId17"/>
    <p:sldLayoutId id="2147483760" r:id="rId18"/>
    <p:sldLayoutId id="2147483761" r:id="rId19"/>
    <p:sldLayoutId id="2147483762" r:id="rId20"/>
    <p:sldLayoutId id="2147483763" r:id="rId21"/>
    <p:sldLayoutId id="2147483764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29.jpe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slideLayout" Target="../slideLayouts/slideLayout15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ct"/><Relationship Id="rId3" Type="http://schemas.openxmlformats.org/officeDocument/2006/relationships/image" Target="../media/image37.png"/><Relationship Id="rId4" Type="http://schemas.openxmlformats.org/officeDocument/2006/relationships/image" Target="../media/image38.pct"/><Relationship Id="rId5" Type="http://schemas.openxmlformats.org/officeDocument/2006/relationships/image" Target="../media/image39.png"/><Relationship Id="rId6" Type="http://schemas.openxmlformats.org/officeDocument/2006/relationships/image" Target="../media/image40.pct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43.pct"/><Relationship Id="rId10" Type="http://schemas.openxmlformats.org/officeDocument/2006/relationships/image" Target="../media/image44.png"/><Relationship Id="rId11" Type="http://schemas.openxmlformats.org/officeDocument/2006/relationships/image" Target="../media/image45.png"/><Relationship Id="rId12" Type="http://schemas.openxmlformats.org/officeDocument/2006/relationships/slideLayout" Target="../slideLayouts/slideLayout15.xml"/><Relationship Id="rId1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15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6.pct"/><Relationship Id="rId2" Type="http://schemas.openxmlformats.org/officeDocument/2006/relationships/image" Target="../media/image57.pct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9.pct"/><Relationship Id="rId2" Type="http://schemas.openxmlformats.org/officeDocument/2006/relationships/image" Target="../media/image60.pct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image" Target="../media/image81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91.png"/><Relationship Id="rId3" Type="http://schemas.openxmlformats.org/officeDocument/2006/relationships/image" Target="../media/image92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94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0.pct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4.png"/><Relationship Id="rId5" Type="http://schemas.openxmlformats.org/officeDocument/2006/relationships/image" Target="../media/image95.png"/><Relationship Id="rId6" Type="http://schemas.openxmlformats.org/officeDocument/2006/relationships/slideLayout" Target="../slideLayouts/slideLayout15.xml"/><Relationship Id="rId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0.pct"/><Relationship Id="rId2" Type="http://schemas.openxmlformats.org/officeDocument/2006/relationships/slideLayout" Target="../slideLayouts/slideLayout39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ct"/><Relationship Id="rId6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image" Target="../media/image17.png"/><Relationship Id="rId3" Type="http://schemas.openxmlformats.org/officeDocument/2006/relationships/image" Target="../media/image15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5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5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86960" y="215640"/>
            <a:ext cx="857268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ynchronised Similar Triangl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Body Orbit with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Zero Angular Moment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4419360"/>
            <a:ext cx="88264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" indent="0" algn="ctr">
              <a:lnSpc>
                <a:spcPct val="90000"/>
              </a:lnSpc>
              <a:spcAft>
                <a:spcPts val="201"/>
              </a:spcAft>
              <a:buNone/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. Fujiwara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th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. Fukuda,  A. Kameyama, H. Ozaki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560" indent="0" algn="ctr">
              <a:lnSpc>
                <a:spcPct val="90000"/>
              </a:lnSpc>
              <a:spcAft>
                <a:spcPts val="201"/>
              </a:spcAft>
              <a:buNone/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d M. Yamada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 1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560" indent="0" algn="ctr">
              <a:lnSpc>
                <a:spcPct val="90000"/>
              </a:lnSpc>
              <a:spcAft>
                <a:spcPts val="201"/>
              </a:spcAft>
              <a:buNone/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PT 2004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560" indent="0" algn="ctr">
              <a:lnSpc>
                <a:spcPct val="90000"/>
              </a:lnSpc>
              <a:spcAft>
                <a:spcPts val="201"/>
              </a:spcAft>
              <a:buNone/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la Gonone, Sardinia, Italy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b9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74360" y="165240"/>
            <a:ext cx="8597880" cy="11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entre of force for three body orbi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L/dt=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673200" y="2844720"/>
            <a:ext cx="8800920" cy="193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b9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74360" y="165240"/>
            <a:ext cx="8597880" cy="11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tangents theore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=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anime3Tangents1.mov" descr=""/>
          <p:cNvPicPr/>
          <p:nvPr/>
        </p:nvPicPr>
        <p:blipFill>
          <a:blip r:embed="rId1"/>
          <a:stretch/>
        </p:blipFill>
        <p:spPr>
          <a:xfrm>
            <a:off x="5270400" y="271764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091880" y="2666880"/>
            <a:ext cx="3911400" cy="34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571680" indent="-444600">
              <a:spcAft>
                <a:spcPts val="1500"/>
              </a:spcAft>
              <a:buSzPct val="100000"/>
              <a:buBlip>
                <a:blip r:embed="rId2"/>
              </a:buBlip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pe of the orbit of Figure Eight x(t) and the orbit C(t) are still unkn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444600">
              <a:spcAft>
                <a:spcPts val="1500"/>
              </a:spcAft>
              <a:buSzPct val="100000"/>
              <a:buBlip>
                <a:blip r:embed="rId3"/>
              </a:buBlip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Tangents Theorem gives a criterion for the orb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444600">
              <a:spcAft>
                <a:spcPts val="1500"/>
              </a:spcAft>
              <a:buSzPct val="100000"/>
              <a:buBlip>
                <a:blip r:embed="rId4"/>
              </a:buBlip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b9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74360" y="165240"/>
            <a:ext cx="8597880" cy="11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implest curv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-th order polynom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041480" y="2158920"/>
            <a:ext cx="3720960" cy="34308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2"/>
          <a:stretch/>
        </p:blipFill>
        <p:spPr>
          <a:xfrm>
            <a:off x="1003320" y="2800440"/>
            <a:ext cx="3809880" cy="196848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3"/>
          <a:stretch/>
        </p:blipFill>
        <p:spPr>
          <a:xfrm>
            <a:off x="5130720" y="2813040"/>
            <a:ext cx="3835440" cy="196848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 rot="5400000">
            <a:off x="6870600" y="4800600"/>
            <a:ext cx="355320" cy="3682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13330"/>
                </a:moveTo>
                <a:lnTo>
                  <a:pt x="10000" y="16670"/>
                </a:lnTo>
                <a:lnTo>
                  <a:pt x="16000" y="16670"/>
                </a:lnTo>
                <a:lnTo>
                  <a:pt x="16000" y="20000"/>
                </a:lnTo>
                <a:lnTo>
                  <a:pt x="20000" y="15000"/>
                </a:lnTo>
                <a:lnTo>
                  <a:pt x="16000" y="10000"/>
                </a:lnTo>
                <a:lnTo>
                  <a:pt x="16000" y="13330"/>
                </a:lnTo>
                <a:close/>
                <a:moveTo>
                  <a:pt x="10000" y="13330"/>
                </a:move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5"/>
          <a:stretch/>
        </p:blipFill>
        <p:spPr>
          <a:xfrm>
            <a:off x="6654960" y="5257800"/>
            <a:ext cx="774720" cy="29196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6"/>
          <a:stretch/>
        </p:blipFill>
        <p:spPr>
          <a:xfrm>
            <a:off x="2514600" y="5295960"/>
            <a:ext cx="787320" cy="21600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 rot="5400000">
            <a:off x="2730240" y="4800600"/>
            <a:ext cx="355320" cy="3682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13330"/>
                </a:moveTo>
                <a:lnTo>
                  <a:pt x="10000" y="16670"/>
                </a:lnTo>
                <a:lnTo>
                  <a:pt x="16000" y="16670"/>
                </a:lnTo>
                <a:lnTo>
                  <a:pt x="16000" y="20000"/>
                </a:lnTo>
                <a:lnTo>
                  <a:pt x="20000" y="15000"/>
                </a:lnTo>
                <a:lnTo>
                  <a:pt x="16000" y="10000"/>
                </a:lnTo>
                <a:lnTo>
                  <a:pt x="16000" y="13330"/>
                </a:lnTo>
                <a:close/>
                <a:moveTo>
                  <a:pt x="10000" y="13330"/>
                </a:moveTo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00400" y="6006960"/>
            <a:ext cx="37987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ndida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mnis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d its scale trans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8"/>
          <a:stretch/>
        </p:blipFill>
        <p:spPr>
          <a:xfrm>
            <a:off x="4940280" y="6350040"/>
            <a:ext cx="2730600" cy="35568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9"/>
          <a:stretch/>
        </p:blipFill>
        <p:spPr>
          <a:xfrm>
            <a:off x="5232240" y="6794640"/>
            <a:ext cx="2146320" cy="21564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5981760" y="5626080"/>
            <a:ext cx="1663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numeriv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b9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74360" y="165240"/>
            <a:ext cx="8597880" cy="11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-body choreograph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 the lemniscate (FFO 200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1422360" y="2171880"/>
            <a:ext cx="7315200" cy="516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b9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74360" y="165240"/>
            <a:ext cx="8597880" cy="11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gure-eight solut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der homogeneous potent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1943280" y="3060720"/>
            <a:ext cx="6260760" cy="990720"/>
          </a:xfrm>
          <a:prstGeom prst="rect">
            <a:avLst/>
          </a:prstGeom>
          <a:ln w="0">
            <a:noFill/>
          </a:ln>
        </p:spPr>
      </p:pic>
      <p:grpSp>
        <p:nvGrpSpPr>
          <p:cNvPr id="501" name=""/>
          <p:cNvGrpSpPr/>
          <p:nvPr/>
        </p:nvGrpSpPr>
        <p:grpSpPr>
          <a:xfrm>
            <a:off x="2540160" y="4330800"/>
            <a:ext cx="5448240" cy="2501640"/>
            <a:chOff x="2540160" y="4330800"/>
            <a:chExt cx="5448240" cy="2501640"/>
          </a:xfrm>
        </p:grpSpPr>
        <p:pic>
          <p:nvPicPr>
            <p:cNvPr id="502" name="" descr=""/>
            <p:cNvPicPr/>
            <p:nvPr/>
          </p:nvPicPr>
          <p:blipFill>
            <a:blip r:embed="rId2"/>
            <a:stretch/>
          </p:blipFill>
          <p:spPr>
            <a:xfrm>
              <a:off x="2540160" y="4330800"/>
              <a:ext cx="5448240" cy="2501640"/>
            </a:xfrm>
            <a:prstGeom prst="rect">
              <a:avLst/>
            </a:prstGeom>
            <a:ln w="0">
              <a:noFill/>
            </a:ln>
            <a:effectLst>
              <a:outerShdw dist="76367" dir="2700000" blurRad="0" rotWithShape="0">
                <a:srgbClr val="808080">
                  <a:alpha val="75000"/>
                </a:srgbClr>
              </a:outerShdw>
            </a:effectLst>
          </p:spPr>
        </p:pic>
        <p:pic>
          <p:nvPicPr>
            <p:cNvPr id="503" name="" descr=""/>
            <p:cNvPicPr/>
            <p:nvPr/>
          </p:nvPicPr>
          <p:blipFill>
            <a:blip r:embed="rId3"/>
            <a:stretch/>
          </p:blipFill>
          <p:spPr>
            <a:xfrm>
              <a:off x="6324480" y="4470120"/>
              <a:ext cx="1511280" cy="317160"/>
            </a:xfrm>
            <a:prstGeom prst="rect">
              <a:avLst/>
            </a:prstGeom>
            <a:ln w="0">
              <a:noFill/>
            </a:ln>
            <a:effectLst>
              <a:outerShdw dist="76367" dir="2700000" blurRad="0" rotWithShape="0">
                <a:srgbClr val="808080">
                  <a:alpha val="75000"/>
                </a:srgbClr>
              </a:outerShdw>
            </a:effectLst>
          </p:spPr>
        </p:pic>
      </p:grpSp>
      <p:grpSp>
        <p:nvGrpSpPr>
          <p:cNvPr id="504" name=""/>
          <p:cNvGrpSpPr/>
          <p:nvPr/>
        </p:nvGrpSpPr>
        <p:grpSpPr>
          <a:xfrm>
            <a:off x="2540160" y="4330800"/>
            <a:ext cx="5448240" cy="2501640"/>
            <a:chOff x="2540160" y="4330800"/>
            <a:chExt cx="5448240" cy="2501640"/>
          </a:xfrm>
        </p:grpSpPr>
        <p:pic>
          <p:nvPicPr>
            <p:cNvPr id="505" name="" descr=""/>
            <p:cNvPicPr/>
            <p:nvPr/>
          </p:nvPicPr>
          <p:blipFill>
            <a:blip r:embed="rId4"/>
            <a:stretch/>
          </p:blipFill>
          <p:spPr>
            <a:xfrm>
              <a:off x="2540160" y="4330800"/>
              <a:ext cx="5448240" cy="2501640"/>
            </a:xfrm>
            <a:prstGeom prst="rect">
              <a:avLst/>
            </a:prstGeom>
            <a:ln w="0">
              <a:noFill/>
            </a:ln>
            <a:effectLst>
              <a:outerShdw dist="76367" dir="2700000" blurRad="0" rotWithShape="0">
                <a:srgbClr val="808080">
                  <a:alpha val="75000"/>
                </a:srgbClr>
              </a:outerShdw>
            </a:effectLst>
          </p:spPr>
        </p:pic>
        <p:pic>
          <p:nvPicPr>
            <p:cNvPr id="506" name="" descr=""/>
            <p:cNvPicPr/>
            <p:nvPr/>
          </p:nvPicPr>
          <p:blipFill>
            <a:blip r:embed="rId5"/>
            <a:stretch/>
          </p:blipFill>
          <p:spPr>
            <a:xfrm>
              <a:off x="6324480" y="4482720"/>
              <a:ext cx="1155960" cy="317160"/>
            </a:xfrm>
            <a:prstGeom prst="rect">
              <a:avLst/>
            </a:prstGeom>
            <a:ln w="0">
              <a:noFill/>
            </a:ln>
            <a:effectLst>
              <a:outerShdw dist="76367" dir="2700000" blurRad="0" rotWithShape="0">
                <a:srgbClr val="808080">
                  <a:alpha val="75000"/>
                </a:srgbClr>
              </a:outerShdw>
            </a:effectLst>
          </p:spPr>
        </p:pic>
      </p:grpSp>
      <p:grpSp>
        <p:nvGrpSpPr>
          <p:cNvPr id="507" name=""/>
          <p:cNvGrpSpPr/>
          <p:nvPr/>
        </p:nvGrpSpPr>
        <p:grpSpPr>
          <a:xfrm>
            <a:off x="2540160" y="4330800"/>
            <a:ext cx="5448240" cy="2501640"/>
            <a:chOff x="2540160" y="4330800"/>
            <a:chExt cx="5448240" cy="2501640"/>
          </a:xfrm>
        </p:grpSpPr>
        <p:pic>
          <p:nvPicPr>
            <p:cNvPr id="508" name="" descr=""/>
            <p:cNvPicPr/>
            <p:nvPr/>
          </p:nvPicPr>
          <p:blipFill>
            <a:blip r:embed="rId6"/>
            <a:stretch/>
          </p:blipFill>
          <p:spPr>
            <a:xfrm>
              <a:off x="2540160" y="4330800"/>
              <a:ext cx="5448240" cy="2501640"/>
            </a:xfrm>
            <a:prstGeom prst="rect">
              <a:avLst/>
            </a:prstGeom>
            <a:ln w="0">
              <a:noFill/>
            </a:ln>
            <a:effectLst>
              <a:outerShdw dist="76367" dir="2700000" blurRad="0" rotWithShape="0">
                <a:srgbClr val="808080">
                  <a:alpha val="75000"/>
                </a:srgbClr>
              </a:outerShdw>
            </a:effectLst>
          </p:spPr>
        </p:pic>
        <p:pic>
          <p:nvPicPr>
            <p:cNvPr id="509" name="" descr=""/>
            <p:cNvPicPr/>
            <p:nvPr/>
          </p:nvPicPr>
          <p:blipFill>
            <a:blip r:embed="rId7"/>
            <a:stretch/>
          </p:blipFill>
          <p:spPr>
            <a:xfrm>
              <a:off x="6324480" y="4457520"/>
              <a:ext cx="1511280" cy="355320"/>
            </a:xfrm>
            <a:prstGeom prst="rect">
              <a:avLst/>
            </a:prstGeom>
            <a:ln w="0">
              <a:noFill/>
            </a:ln>
            <a:effectLst>
              <a:outerShdw dist="76367" dir="2700000" blurRad="0" rotWithShape="0">
                <a:srgbClr val="808080">
                  <a:alpha val="75000"/>
                </a:srgbClr>
              </a:outerShdw>
            </a:effectLst>
          </p:spPr>
        </p:pic>
      </p:grpSp>
      <p:pic>
        <p:nvPicPr>
          <p:cNvPr id="510" name="" descr=""/>
          <p:cNvPicPr/>
          <p:nvPr/>
        </p:nvPicPr>
        <p:blipFill>
          <a:blip r:embed="rId8"/>
          <a:stretch/>
        </p:blipFill>
        <p:spPr>
          <a:xfrm>
            <a:off x="1943280" y="1930320"/>
            <a:ext cx="3517560" cy="939960"/>
          </a:xfrm>
          <a:prstGeom prst="rect">
            <a:avLst/>
          </a:prstGeom>
          <a:ln w="0">
            <a:noFill/>
          </a:ln>
        </p:spPr>
      </p:pic>
      <p:grpSp>
        <p:nvGrpSpPr>
          <p:cNvPr id="511" name=""/>
          <p:cNvGrpSpPr/>
          <p:nvPr/>
        </p:nvGrpSpPr>
        <p:grpSpPr>
          <a:xfrm>
            <a:off x="2247840" y="4330800"/>
            <a:ext cx="6032520" cy="3390840"/>
            <a:chOff x="2247840" y="4330800"/>
            <a:chExt cx="6032520" cy="3390840"/>
          </a:xfrm>
        </p:grpSpPr>
        <p:grpSp>
          <p:nvGrpSpPr>
            <p:cNvPr id="512" name=""/>
            <p:cNvGrpSpPr/>
            <p:nvPr/>
          </p:nvGrpSpPr>
          <p:grpSpPr>
            <a:xfrm>
              <a:off x="2539800" y="4330800"/>
              <a:ext cx="5448240" cy="2502000"/>
              <a:chOff x="2539800" y="4330800"/>
              <a:chExt cx="5448240" cy="2502000"/>
            </a:xfrm>
          </p:grpSpPr>
          <p:pic>
            <p:nvPicPr>
              <p:cNvPr id="51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539800" y="4330800"/>
                <a:ext cx="5448240" cy="250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324120" y="4381560"/>
                <a:ext cx="1511280" cy="355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15" name="" descr=""/>
            <p:cNvPicPr/>
            <p:nvPr/>
          </p:nvPicPr>
          <p:blipFill>
            <a:blip r:embed="rId11"/>
            <a:stretch/>
          </p:blipFill>
          <p:spPr>
            <a:xfrm>
              <a:off x="2247840" y="7023240"/>
              <a:ext cx="6032520" cy="698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b9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74360" y="165240"/>
            <a:ext cx="8597880" cy="11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moment of inert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1371600" y="1879560"/>
            <a:ext cx="7416720" cy="415296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1306080" y="6261120"/>
            <a:ext cx="75474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igure-eight under 1/r^2 has I=consta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hat does this mean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556440" y="4292640"/>
            <a:ext cx="3045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grange-Jacobi id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 flipH="1">
            <a:off x="5235120" y="2273400"/>
            <a:ext cx="554040" cy="1933560"/>
          </a:xfrm>
          <a:prstGeom prst="line">
            <a:avLst/>
          </a:prstGeom>
          <a:ln w="25560">
            <a:solidFill>
              <a:srgbClr val="8a86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384880" y="2133720"/>
            <a:ext cx="1790640" cy="1930320"/>
          </a:xfrm>
          <a:prstGeom prst="line">
            <a:avLst/>
          </a:prstGeom>
          <a:ln w="25560">
            <a:solidFill>
              <a:srgbClr val="8a86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245200" y="2425680"/>
            <a:ext cx="3606840" cy="635040"/>
          </a:xfrm>
          <a:prstGeom prst="line">
            <a:avLst/>
          </a:prstGeom>
          <a:ln w="25560">
            <a:solidFill>
              <a:srgbClr val="8a86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74360" y="165240"/>
            <a:ext cx="8597880" cy="11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normals theore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dI/dt=0 orb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380880" y="1841400"/>
            <a:ext cx="4496040" cy="104148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380880" y="3149640"/>
            <a:ext cx="4622760" cy="250200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3"/>
          <a:stretch/>
        </p:blipFill>
        <p:spPr>
          <a:xfrm>
            <a:off x="4114800" y="5994360"/>
            <a:ext cx="5829480" cy="40644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4"/>
          <a:stretch/>
        </p:blipFill>
        <p:spPr>
          <a:xfrm>
            <a:off x="380880" y="6070680"/>
            <a:ext cx="2806920" cy="67320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 flipH="1">
            <a:off x="8712360" y="3059280"/>
            <a:ext cx="163440" cy="966600"/>
          </a:xfrm>
          <a:prstGeom prst="line">
            <a:avLst/>
          </a:prstGeom>
          <a:ln w="50760">
            <a:solidFill>
              <a:srgbClr val="020201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7192080" y="3292560"/>
            <a:ext cx="838440" cy="782640"/>
          </a:xfrm>
          <a:prstGeom prst="line">
            <a:avLst/>
          </a:prstGeom>
          <a:ln w="50760">
            <a:solidFill>
              <a:srgbClr val="020201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 flipV="1">
            <a:off x="4611600" y="3997080"/>
            <a:ext cx="635040" cy="183960"/>
          </a:xfrm>
          <a:prstGeom prst="line">
            <a:avLst/>
          </a:prstGeom>
          <a:ln w="50760">
            <a:solidFill>
              <a:srgbClr val="020201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390640" y="4343400"/>
            <a:ext cx="229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648120" y="3848040"/>
            <a:ext cx="229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845200" y="2603520"/>
            <a:ext cx="229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5"/>
          <a:stretch/>
        </p:blipFill>
        <p:spPr>
          <a:xfrm>
            <a:off x="5803920" y="2108160"/>
            <a:ext cx="609480" cy="406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4711680" y="190440"/>
            <a:ext cx="7772400" cy="1005840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74360" y="165240"/>
            <a:ext cx="8597880" cy="11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ircumcircle theore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L=0, dI/dt=0 orb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2"/>
          <a:stretch/>
        </p:blipFill>
        <p:spPr>
          <a:xfrm>
            <a:off x="431640" y="1879560"/>
            <a:ext cx="4483440" cy="213372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3"/>
          <a:stretch/>
        </p:blipFill>
        <p:spPr>
          <a:xfrm>
            <a:off x="431640" y="4775040"/>
            <a:ext cx="3619800" cy="67320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4"/>
          <a:stretch/>
        </p:blipFill>
        <p:spPr>
          <a:xfrm>
            <a:off x="431640" y="6400800"/>
            <a:ext cx="477540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2324160" y="2749680"/>
            <a:ext cx="5511600" cy="415260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599840" y="114120"/>
            <a:ext cx="7480440" cy="16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entres for figure-eight solut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der 1/r^2 potent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mov.fig8AlphaEqMinus2.CtCnCoCf1.mov" descr=""/>
          <p:cNvPicPr/>
          <p:nvPr/>
        </p:nvPicPr>
        <p:blipFill>
          <a:blip r:embed="rId2"/>
          <a:stretch/>
        </p:blipFill>
        <p:spPr>
          <a:xfrm>
            <a:off x="2336760" y="275580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3"/>
          <a:stretch/>
        </p:blipFill>
        <p:spPr>
          <a:xfrm>
            <a:off x="2146320" y="1930320"/>
            <a:ext cx="5854680" cy="63504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2131920" y="6888240"/>
            <a:ext cx="5979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What does this mean ?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1295280" y="1968480"/>
            <a:ext cx="7975800" cy="2844720"/>
          </a:xfrm>
          <a:prstGeom prst="rect">
            <a:avLst/>
          </a:prstGeom>
          <a:ln w="0">
            <a:noFill/>
          </a:ln>
        </p:spPr>
      </p:pic>
      <p:pic>
        <p:nvPicPr>
          <p:cNvPr id="546" name="mov.xvTriangle.small1.mov" descr=""/>
          <p:cNvPicPr/>
          <p:nvPr/>
        </p:nvPicPr>
        <p:blipFill>
          <a:blip r:embed="rId2"/>
          <a:stretch/>
        </p:blipFill>
        <p:spPr>
          <a:xfrm>
            <a:off x="1231920" y="1924200"/>
            <a:ext cx="8229600" cy="293364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74360" y="165240"/>
            <a:ext cx="8597880" cy="11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ynchronised similar triangle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gure-eight under 1/r^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3"/>
          <a:stretch/>
        </p:blipFill>
        <p:spPr>
          <a:xfrm>
            <a:off x="4660920" y="5130720"/>
            <a:ext cx="939960" cy="26676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4"/>
          <a:stretch/>
        </p:blipFill>
        <p:spPr>
          <a:xfrm>
            <a:off x="2438280" y="4940280"/>
            <a:ext cx="1155960" cy="64764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5"/>
          <a:stretch/>
        </p:blipFill>
        <p:spPr>
          <a:xfrm>
            <a:off x="6019920" y="5676840"/>
            <a:ext cx="3733560" cy="27936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6"/>
          <a:stretch/>
        </p:blipFill>
        <p:spPr>
          <a:xfrm>
            <a:off x="6515280" y="4927680"/>
            <a:ext cx="1701720" cy="68580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785960" y="6089760"/>
            <a:ext cx="7096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wo triangles are inversely congru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349880" y="6622920"/>
            <a:ext cx="1980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Because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1549080" y="204480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9000"/>
          </a:bodyPr>
          <a:p>
            <a:pPr marL="508680" indent="-395640">
              <a:spcAft>
                <a:spcPts val="1800"/>
              </a:spcAft>
              <a:buSzPct val="100000"/>
              <a:buBlip>
                <a:blip r:embed="rId1"/>
              </a:buBlip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-eight three-body choreography has L=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26640" indent="-395640">
              <a:spcAft>
                <a:spcPts val="1800"/>
              </a:spcAft>
              <a:buSzPct val="100000"/>
              <a:buBlip>
                <a:blip r:embed="rId2"/>
              </a:buBlip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metrical property of L=0 or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8680" indent="-395640">
              <a:spcAft>
                <a:spcPts val="1800"/>
              </a:spcAft>
              <a:buSzPct val="100000"/>
              <a:buBlip>
                <a:blip r:embed="rId3"/>
              </a:buBlip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-eight three-body choreograph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 1/r^2 potential has L=0 and I=cons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26640" indent="-395640">
              <a:spcAft>
                <a:spcPts val="1800"/>
              </a:spcAft>
              <a:buSzPct val="100000"/>
              <a:buBlip>
                <a:blip r:embed="rId4"/>
              </a:buBlip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metrical property of L=0 and I=const. or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8680" indent="-395640">
              <a:spcAft>
                <a:spcPts val="1800"/>
              </a:spcAft>
              <a:buSzPct val="100000"/>
              <a:buBlip>
                <a:blip r:embed="rId5"/>
              </a:buBlip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metrical property of L=0 or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26640" indent="-395640">
              <a:lnSpc>
                <a:spcPts val="7600"/>
              </a:lnSpc>
              <a:spcAft>
                <a:spcPts val="11"/>
              </a:spcAft>
              <a:buSzPct val="100000"/>
              <a:buBlip>
                <a:blip r:embed="rId6"/>
              </a:buBlip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initely many syzygies for L=0 or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774360" y="343080"/>
            <a:ext cx="8597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ometry of three-body, L=0 orb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63640" y="6222960"/>
            <a:ext cx="89154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ttp://arxiv.org/abs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h-ph/04040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ttp:/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ww.clas.kitasato-u.ac.jp/~fujiwara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Body/nbody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61760" y="114120"/>
            <a:ext cx="9055080" cy="12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ilar triangles for L=0, dI/dt=0 orb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4711680" y="190440"/>
            <a:ext cx="7772400" cy="1005840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2"/>
          <a:stretch/>
        </p:blipFill>
        <p:spPr>
          <a:xfrm>
            <a:off x="431640" y="4546440"/>
            <a:ext cx="3302280" cy="133380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3"/>
          <a:stretch/>
        </p:blipFill>
        <p:spPr>
          <a:xfrm>
            <a:off x="431640" y="6108840"/>
            <a:ext cx="3353040" cy="66024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4"/>
          <a:stretch/>
        </p:blipFill>
        <p:spPr>
          <a:xfrm>
            <a:off x="431640" y="1803240"/>
            <a:ext cx="447048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4711680" y="190440"/>
            <a:ext cx="7772400" cy="100584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12600" y="1917720"/>
            <a:ext cx="5499360" cy="21463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10000"/>
                </a:moveTo>
                <a:lnTo>
                  <a:pt x="20000" y="10000"/>
                </a:lnTo>
                <a:lnTo>
                  <a:pt x="20000" y="20000"/>
                </a:lnTo>
                <a:lnTo>
                  <a:pt x="10000" y="20000"/>
                </a:lnTo>
                <a:close/>
                <a:moveTo>
                  <a:pt x="10000" y="10000"/>
                </a:moveTo>
              </a:path>
            </a:pathLst>
          </a:cu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74360" y="165240"/>
            <a:ext cx="8597880" cy="11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 of magnificat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L=0, dI/dt=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2"/>
          <a:stretch/>
        </p:blipFill>
        <p:spPr>
          <a:xfrm>
            <a:off x="3009960" y="6159600"/>
            <a:ext cx="4152960" cy="78732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0" y="5054760"/>
            <a:ext cx="5867280" cy="9396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10000"/>
                </a:moveTo>
                <a:lnTo>
                  <a:pt x="20000" y="10000"/>
                </a:lnTo>
                <a:lnTo>
                  <a:pt x="20000" y="20000"/>
                </a:lnTo>
                <a:lnTo>
                  <a:pt x="10000" y="20000"/>
                </a:lnTo>
                <a:close/>
                <a:moveTo>
                  <a:pt x="10000" y="10000"/>
                </a:moveTo>
              </a:path>
            </a:pathLst>
          </a:cu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3"/>
          <a:stretch/>
        </p:blipFill>
        <p:spPr>
          <a:xfrm>
            <a:off x="228600" y="4343400"/>
            <a:ext cx="5587920" cy="127008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4"/>
          <a:stretch/>
        </p:blipFill>
        <p:spPr>
          <a:xfrm>
            <a:off x="228600" y="1994040"/>
            <a:ext cx="5029200" cy="18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4711680" y="190440"/>
            <a:ext cx="7772400" cy="100584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0" y="0"/>
            <a:ext cx="10159920" cy="76201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10000"/>
                </a:moveTo>
                <a:lnTo>
                  <a:pt x="20000" y="10000"/>
                </a:lnTo>
                <a:lnTo>
                  <a:pt x="20000" y="20000"/>
                </a:lnTo>
                <a:lnTo>
                  <a:pt x="10000" y="20000"/>
                </a:lnTo>
                <a:close/>
                <a:moveTo>
                  <a:pt x="10000" y="10000"/>
                </a:moveTo>
              </a:path>
            </a:pathLst>
          </a:custGeom>
          <a:solidFill>
            <a:srgbClr val="ffffff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74360" y="165240"/>
            <a:ext cx="8597880" cy="11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riented are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L=0, dI/dt=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2"/>
          <a:stretch/>
        </p:blipFill>
        <p:spPr>
          <a:xfrm>
            <a:off x="558720" y="1765440"/>
            <a:ext cx="7429680" cy="184140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3"/>
          <a:stretch/>
        </p:blipFill>
        <p:spPr>
          <a:xfrm>
            <a:off x="558720" y="4076640"/>
            <a:ext cx="8420040" cy="34308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4"/>
          <a:stretch/>
        </p:blipFill>
        <p:spPr>
          <a:xfrm>
            <a:off x="3403440" y="5130720"/>
            <a:ext cx="3340440" cy="69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599840" y="114480"/>
            <a:ext cx="74804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ual triang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990720" y="1879560"/>
            <a:ext cx="871200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799920" y="101160"/>
            <a:ext cx="8546760" cy="17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ergy balance for L=0, dI/dt=0 orbi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der homogeneous potent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2806560" y="1994040"/>
            <a:ext cx="4534200" cy="87624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2"/>
          <a:stretch/>
        </p:blipFill>
        <p:spPr>
          <a:xfrm>
            <a:off x="2717640" y="3213000"/>
            <a:ext cx="4724640" cy="812880"/>
          </a:xfrm>
          <a:prstGeom prst="rect">
            <a:avLst/>
          </a:prstGeom>
          <a:ln w="0">
            <a:noFill/>
          </a:ln>
        </p:spPr>
      </p:pic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247840" y="4470480"/>
            <a:ext cx="566424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571680" indent="-444600">
              <a:spcAft>
                <a:spcPts val="1701"/>
              </a:spcAft>
              <a:buSzPct val="100000"/>
              <a:buBlip>
                <a:blip r:embed="rId3"/>
              </a:buBlip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expect something special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if such an orbit is reali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74360" y="165240"/>
            <a:ext cx="8597880" cy="11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ergy balance fo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=0, dI/dt=0 orbit under 1/r^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3581280" y="2146320"/>
            <a:ext cx="3530880" cy="87624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2"/>
          <a:stretch/>
        </p:blipFill>
        <p:spPr>
          <a:xfrm>
            <a:off x="2133720" y="4610160"/>
            <a:ext cx="6426000" cy="74916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3"/>
          <a:stretch/>
        </p:blipFill>
        <p:spPr>
          <a:xfrm>
            <a:off x="2616120" y="3086280"/>
            <a:ext cx="5448240" cy="77436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4"/>
          <a:stretch/>
        </p:blipFill>
        <p:spPr>
          <a:xfrm>
            <a:off x="2095560" y="5867280"/>
            <a:ext cx="6502320" cy="72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74360" y="165240"/>
            <a:ext cx="8597880" cy="11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ergy balanc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L=0, dI/dt=0 orbit under log 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1320840" y="2171880"/>
            <a:ext cx="7518240" cy="182880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876240" y="4572000"/>
            <a:ext cx="8407440" cy="85104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352680" y="5727240"/>
            <a:ext cx="3454560" cy="5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79000"/>
          </a:bodyPr>
          <a:p>
            <a:pPr marL="451440" indent="-351000">
              <a:spcAft>
                <a:spcPts val="1701"/>
              </a:spcAft>
              <a:buSzPct val="100000"/>
              <a:buBlip>
                <a:blip r:embed="rId3"/>
              </a:buBlip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t is so st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599840" y="114480"/>
            <a:ext cx="7480440" cy="22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ergy balanc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L=0, dI/dt orbit unde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ther homogeneous potenti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1041480" y="2768760"/>
            <a:ext cx="7619760" cy="1485720"/>
          </a:xfrm>
          <a:prstGeom prst="rect">
            <a:avLst/>
          </a:prstGeom>
          <a:ln w="0">
            <a:noFill/>
          </a:ln>
        </p:spPr>
      </p:pic>
      <p:pic>
        <p:nvPicPr>
          <p:cNvPr id="589" name="" descr=""/>
          <p:cNvPicPr/>
          <p:nvPr/>
        </p:nvPicPr>
        <p:blipFill>
          <a:blip r:embed="rId2"/>
          <a:stretch/>
        </p:blipFill>
        <p:spPr>
          <a:xfrm>
            <a:off x="1092240" y="4622760"/>
            <a:ext cx="8496360" cy="939960"/>
          </a:xfrm>
          <a:prstGeom prst="rect">
            <a:avLst/>
          </a:prstGeom>
          <a:ln w="0">
            <a:noFill/>
          </a:ln>
        </p:spPr>
      </p:pic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555720" y="5740560"/>
            <a:ext cx="356868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571680" indent="-444600">
              <a:spcAft>
                <a:spcPts val="1701"/>
              </a:spcAft>
              <a:buSzPct val="100000"/>
              <a:buBlip>
                <a:blip r:embed="rId3"/>
              </a:buBlip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t is so st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736560" y="3022560"/>
            <a:ext cx="868680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571680" indent="-444600">
              <a:spcAft>
                <a:spcPts val="1701"/>
              </a:spcAft>
              <a:buSzPct val="100000"/>
              <a:buBlip>
                <a:blip r:embed="rId1"/>
              </a:buBlip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the followings, we consider L=0 orbit,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 assuming dI/dt=0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444600">
              <a:spcAft>
                <a:spcPts val="1701"/>
              </a:spcAft>
              <a:buSzPct val="100000"/>
              <a:buBlip>
                <a:blip r:embed="rId2"/>
              </a:buBlip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in this case, we can find the synchronised similar triang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title"/>
          </p:nvPr>
        </p:nvSpPr>
        <p:spPr>
          <a:xfrm>
            <a:off x="774360" y="165240"/>
            <a:ext cx="8597880" cy="11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ometrical properties of L=0 orb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ynchronised similar triangl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L=0 orb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673200" y="2006640"/>
            <a:ext cx="8800920" cy="492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600200" y="2362320"/>
            <a:ext cx="5486400" cy="19555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10000"/>
                </a:moveTo>
                <a:lnTo>
                  <a:pt x="20000" y="10000"/>
                </a:lnTo>
                <a:lnTo>
                  <a:pt x="20000" y="20000"/>
                </a:lnTo>
                <a:lnTo>
                  <a:pt x="10000" y="20000"/>
                </a:lnTo>
                <a:close/>
                <a:moveTo>
                  <a:pt x="10000" y="10000"/>
                </a:moveTo>
              </a:path>
            </a:pathLst>
          </a:custGeom>
          <a:solidFill>
            <a:srgbClr val="c3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1549080" y="204480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571680" indent="-444600">
              <a:spcAft>
                <a:spcPts val="1800"/>
              </a:spcAft>
              <a:buSzPct val="100000"/>
              <a:buBlip>
                <a:blip r:embed="rId1"/>
              </a:buBlip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vation and hist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1480" indent="-444600">
              <a:spcAft>
                <a:spcPts val="1800"/>
              </a:spcAft>
              <a:buSzPct val="100000"/>
              <a:buBlip>
                <a:blip r:embed="rId2"/>
              </a:buBlip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gure-eight 3-body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1480" indent="-444600">
              <a:spcAft>
                <a:spcPts val="1800"/>
              </a:spcAft>
              <a:buSzPct val="100000"/>
              <a:buBlip>
                <a:blip r:embed="rId3"/>
              </a:buBlip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metrical property of L=0 or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444600">
              <a:spcAft>
                <a:spcPts val="1800"/>
              </a:spcAft>
              <a:buSzPct val="100000"/>
              <a:buBlip>
                <a:blip r:embed="rId4"/>
              </a:buBlip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metrical property of L=0 and I=const. or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444600">
              <a:spcAft>
                <a:spcPts val="1800"/>
              </a:spcAft>
              <a:buSzPct val="100000"/>
              <a:buBlip>
                <a:blip r:embed="rId5"/>
              </a:buBlip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metrical property of L=0 or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774360" y="343080"/>
            <a:ext cx="8597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ometry of three-body, L=0 orb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63640" y="6222960"/>
            <a:ext cx="89154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ttp://arxiv.org/abs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h-ph/04040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ttp:/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ww.clas.kitasato-u.ac.jp/~fujiwara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Body/nbody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90360" y="12708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urely algebraic derivation of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ynchronised similar triang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749160" y="1892160"/>
            <a:ext cx="8649000" cy="538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ynchronised similar triangl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L=0 orb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1600200" y="2082960"/>
            <a:ext cx="6959520" cy="462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74360" y="165240"/>
            <a:ext cx="8597880" cy="11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oriented area for L=0 orb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7835040" y="4508640"/>
            <a:ext cx="304920" cy="635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1600200" y="6299280"/>
            <a:ext cx="6959520" cy="111744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2"/>
          <a:stretch/>
        </p:blipFill>
        <p:spPr>
          <a:xfrm>
            <a:off x="1308240" y="2362320"/>
            <a:ext cx="7530840" cy="219708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3"/>
          <a:stretch/>
        </p:blipFill>
        <p:spPr>
          <a:xfrm>
            <a:off x="4102200" y="5270400"/>
            <a:ext cx="5511600" cy="647640"/>
          </a:xfrm>
          <a:prstGeom prst="rect">
            <a:avLst/>
          </a:prstGeom>
          <a:ln w="25560">
            <a:solidFill>
              <a:srgbClr val="6a6a6a"/>
            </a:solidFill>
            <a:prstDash val="sysDot"/>
            <a:miter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/>
          </p:nvPr>
        </p:nvSpPr>
        <p:spPr>
          <a:xfrm>
            <a:off x="774360" y="2070000"/>
            <a:ext cx="859788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571680" indent="-444600">
              <a:spcAft>
                <a:spcPts val="3300"/>
              </a:spcAft>
              <a:buSzPct val="100000"/>
              <a:buBlip>
                <a:blip r:embed="rId1"/>
              </a:buBlip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gomery formulated and proved: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ny bounded three-body orbit with L=0 has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finitely many collinear configurations (syzygies or eclipses) or collis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444600">
              <a:spcAft>
                <a:spcPts val="1701"/>
              </a:spcAft>
              <a:buSzPct val="100000"/>
              <a:buBlip>
                <a:blip r:embed="rId2"/>
              </a:buBlip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give a simple proo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title"/>
          </p:nvPr>
        </p:nvSpPr>
        <p:spPr>
          <a:xfrm>
            <a:off x="774360" y="165240"/>
            <a:ext cx="8597880" cy="11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finitely many syzygies or collision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Montgomery 200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74360" y="165240"/>
            <a:ext cx="8597880" cy="11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imple proof of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finitely many syzygies or colli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1"/>
          <a:stretch/>
        </p:blipFill>
        <p:spPr>
          <a:xfrm>
            <a:off x="546120" y="2171880"/>
            <a:ext cx="9055080" cy="51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4749840" y="241200"/>
            <a:ext cx="7772400" cy="1005840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/>
          <p:nvPr/>
        </p:nvSpPr>
        <p:spPr>
          <a:xfrm>
            <a:off x="0" y="1803240"/>
            <a:ext cx="8026560" cy="20066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10000"/>
                </a:moveTo>
                <a:lnTo>
                  <a:pt x="20000" y="10000"/>
                </a:lnTo>
                <a:lnTo>
                  <a:pt x="20000" y="20000"/>
                </a:lnTo>
                <a:lnTo>
                  <a:pt x="10000" y="20000"/>
                </a:lnTo>
                <a:close/>
                <a:moveTo>
                  <a:pt x="10000" y="10000"/>
                </a:moveTo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99840" y="114480"/>
            <a:ext cx="74804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 1: Synchronised similar triangles for L=0, dI/dt=0 orb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177840" y="1917720"/>
            <a:ext cx="7429320" cy="448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mov.xvTriangle.small2.mov" descr=""/>
          <p:cNvPicPr/>
          <p:nvPr/>
        </p:nvPicPr>
        <p:blipFill>
          <a:blip r:embed="rId1"/>
          <a:stretch/>
        </p:blipFill>
        <p:spPr>
          <a:xfrm>
            <a:off x="1219320" y="2330280"/>
            <a:ext cx="8229600" cy="293400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599840" y="114120"/>
            <a:ext cx="7480440" cy="16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 2: Synchronised similar triangles for figure-eight under 1/r^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2"/>
          <a:stretch/>
        </p:blipFill>
        <p:spPr>
          <a:xfrm>
            <a:off x="4610160" y="5651640"/>
            <a:ext cx="939600" cy="26640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3"/>
          <a:stretch/>
        </p:blipFill>
        <p:spPr>
          <a:xfrm>
            <a:off x="2463840" y="5460840"/>
            <a:ext cx="1155600" cy="64800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6451560" y="5448240"/>
            <a:ext cx="1701720" cy="68580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1434960" y="6203880"/>
            <a:ext cx="7823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wo triangles are inversely congru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5"/>
          <a:stretch/>
        </p:blipFill>
        <p:spPr>
          <a:xfrm>
            <a:off x="4521240" y="6654960"/>
            <a:ext cx="162540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599840" y="114120"/>
            <a:ext cx="748044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 3: Synchronised similar triangles  for L=0 orb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1"/>
          <a:stretch/>
        </p:blipFill>
        <p:spPr>
          <a:xfrm>
            <a:off x="990720" y="2044800"/>
            <a:ext cx="8178840" cy="483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mov.xvTriangle.small3.mov" descr=""/>
          <p:cNvPicPr/>
          <p:nvPr/>
        </p:nvPicPr>
        <p:blipFill>
          <a:blip r:embed="rId1"/>
          <a:stretch/>
        </p:blipFill>
        <p:spPr>
          <a:xfrm>
            <a:off x="1219320" y="2330280"/>
            <a:ext cx="8229600" cy="2934000"/>
          </a:xfrm>
          <a:prstGeom prst="rect">
            <a:avLst/>
          </a:prstGeom>
          <a:ln w="0">
            <a:noFill/>
          </a:ln>
        </p:spPr>
      </p:pic>
      <p:sp>
        <p:nvSpPr>
          <p:cNvPr id="622" name=""/>
          <p:cNvSpPr/>
          <p:nvPr/>
        </p:nvSpPr>
        <p:spPr>
          <a:xfrm>
            <a:off x="0" y="0"/>
            <a:ext cx="10159920" cy="76201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10000"/>
                </a:moveTo>
                <a:lnTo>
                  <a:pt x="20000" y="10000"/>
                </a:lnTo>
                <a:lnTo>
                  <a:pt x="20000" y="20000"/>
                </a:lnTo>
                <a:lnTo>
                  <a:pt x="10000" y="20000"/>
                </a:lnTo>
                <a:close/>
                <a:moveTo>
                  <a:pt x="10000" y="10000"/>
                </a:moveTo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19320" y="304920"/>
            <a:ext cx="8191440" cy="71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have a drea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e day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one will e-mail 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 sa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olv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he figure-eight 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b9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774360" y="2070000"/>
            <a:ext cx="859788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571680" indent="-444600">
              <a:spcAft>
                <a:spcPts val="1701"/>
              </a:spcAft>
              <a:buSzPct val="100000"/>
              <a:buBlip>
                <a:blip r:embed="rId1"/>
              </a:buBlip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Moore (1993): found numer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444600">
              <a:spcAft>
                <a:spcPts val="1701"/>
              </a:spcAft>
              <a:buSzPct val="100000"/>
              <a:buBlip>
                <a:blip r:embed="rId2"/>
              </a:buBlip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Chenciner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. Montgomery (2000)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d the exist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444600">
              <a:spcAft>
                <a:spcPts val="1701"/>
              </a:spcAft>
              <a:buSzPct val="100000"/>
              <a:buBlip>
                <a:blip r:embed="rId3"/>
              </a:buBlip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Simó (2000)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 a lot of N-body choreographies numer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444600">
              <a:spcAft>
                <a:spcPts val="1701"/>
              </a:spcAft>
              <a:buSzPct val="100000"/>
              <a:buBlip>
                <a:blip r:embed="rId4"/>
              </a:buBlip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utello, Ferrario, Terracini,   Chen,   Shibayama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title"/>
          </p:nvPr>
        </p:nvSpPr>
        <p:spPr>
          <a:xfrm>
            <a:off x="774360" y="165240"/>
            <a:ext cx="8597880" cy="11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-body figure-eight choreograp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animeX.mov" descr=""/>
          <p:cNvPicPr/>
          <p:nvPr/>
        </p:nvPicPr>
        <p:blipFill>
          <a:blip r:embed="rId5"/>
          <a:stretch/>
        </p:blipFill>
        <p:spPr>
          <a:xfrm>
            <a:off x="5181480" y="3200400"/>
            <a:ext cx="36576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b9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74360" y="165240"/>
            <a:ext cx="8597880" cy="11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-body figure-eight choreograp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animeX1.mov" descr=""/>
          <p:cNvPicPr/>
          <p:nvPr/>
        </p:nvPicPr>
        <p:blipFill>
          <a:blip r:embed="rId1"/>
          <a:stretch/>
        </p:blipFill>
        <p:spPr>
          <a:xfrm>
            <a:off x="5079960" y="3505320"/>
            <a:ext cx="3657600" cy="182880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1117440" y="2552760"/>
            <a:ext cx="4102200" cy="38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b9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700560" y="2895480"/>
            <a:ext cx="4847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tal angular momentum is conserv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for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774360" y="165240"/>
            <a:ext cx="8597880" cy="11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gure-eight ha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zero angular moment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animeX2.mov" descr=""/>
          <p:cNvPicPr/>
          <p:nvPr/>
        </p:nvPicPr>
        <p:blipFill>
          <a:blip r:embed="rId1"/>
          <a:stretch/>
        </p:blipFill>
        <p:spPr>
          <a:xfrm>
            <a:off x="5079960" y="3505320"/>
            <a:ext cx="3657600" cy="182880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635040" y="4038480"/>
            <a:ext cx="4267080" cy="6987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670680" y="4940280"/>
            <a:ext cx="2544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Σψμβολ"/>
              </a:rPr>
              <a:t>⋅⋅⋅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gt; : time a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635040" y="5829480"/>
            <a:ext cx="5600520" cy="40608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4"/>
          <a:stretch/>
        </p:blipFill>
        <p:spPr>
          <a:xfrm>
            <a:off x="635040" y="2260440"/>
            <a:ext cx="24890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b9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74360" y="165240"/>
            <a:ext cx="8597880" cy="11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tangents theorem (FFO 2003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=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anime3Tangents.mov" descr=""/>
          <p:cNvPicPr/>
          <p:nvPr/>
        </p:nvPicPr>
        <p:blipFill>
          <a:blip r:embed="rId1"/>
          <a:stretch/>
        </p:blipFill>
        <p:spPr>
          <a:xfrm>
            <a:off x="5232240" y="21463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635040" y="2158920"/>
            <a:ext cx="4572000" cy="1041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b9b9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74360" y="165240"/>
            <a:ext cx="8597880" cy="11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tangents theor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8" name="anime3TangentsGeneral.mov" descr=""/>
          <p:cNvPicPr/>
          <p:nvPr/>
        </p:nvPicPr>
        <p:blipFill>
          <a:blip r:embed="rId1"/>
          <a:stretch/>
        </p:blipFill>
        <p:spPr>
          <a:xfrm>
            <a:off x="5235480" y="214632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5575320" y="7010280"/>
            <a:ext cx="3873600" cy="2793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635040" y="2158920"/>
            <a:ext cx="4572000" cy="104148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4"/>
          <a:stretch/>
        </p:blipFill>
        <p:spPr>
          <a:xfrm>
            <a:off x="635040" y="4051440"/>
            <a:ext cx="2806560" cy="67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b9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"/>
          <p:cNvGrpSpPr/>
          <p:nvPr/>
        </p:nvGrpSpPr>
        <p:grpSpPr>
          <a:xfrm>
            <a:off x="5028840" y="1828800"/>
            <a:ext cx="4000680" cy="2882880"/>
            <a:chOff x="5028840" y="1828800"/>
            <a:chExt cx="4000680" cy="2882880"/>
          </a:xfrm>
        </p:grpSpPr>
        <p:sp>
          <p:nvSpPr>
            <p:cNvPr id="463" name=""/>
            <p:cNvSpPr/>
            <p:nvPr/>
          </p:nvSpPr>
          <p:spPr>
            <a:xfrm flipH="1">
              <a:off x="5028840" y="1994040"/>
              <a:ext cx="3429000" cy="1422360"/>
            </a:xfrm>
            <a:prstGeom prst="line">
              <a:avLst/>
            </a:prstGeom>
            <a:ln w="25560">
              <a:solidFill>
                <a:srgbClr val="9c98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7301880" y="1994040"/>
              <a:ext cx="1155960" cy="2717640"/>
            </a:xfrm>
            <a:prstGeom prst="line">
              <a:avLst/>
            </a:prstGeom>
            <a:ln w="25560">
              <a:solidFill>
                <a:srgbClr val="9c98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5" name="" descr=""/>
            <p:cNvPicPr/>
            <p:nvPr/>
          </p:nvPicPr>
          <p:blipFill>
            <a:blip r:embed="rId1"/>
            <a:stretch/>
          </p:blipFill>
          <p:spPr>
            <a:xfrm>
              <a:off x="8483400" y="1828800"/>
              <a:ext cx="546120" cy="406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6" name="" descr=""/>
          <p:cNvPicPr/>
          <p:nvPr/>
        </p:nvPicPr>
        <p:blipFill>
          <a:blip r:embed="rId2"/>
          <a:stretch/>
        </p:blipFill>
        <p:spPr>
          <a:xfrm>
            <a:off x="635040" y="3670200"/>
            <a:ext cx="4419720" cy="242568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74360" y="165240"/>
            <a:ext cx="8597880" cy="11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tangents theor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635040" y="2158920"/>
            <a:ext cx="4572000" cy="104148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 flipH="1">
            <a:off x="6184440" y="1994040"/>
            <a:ext cx="2273400" cy="1993680"/>
          </a:xfrm>
          <a:prstGeom prst="line">
            <a:avLst/>
          </a:prstGeom>
          <a:ln w="25560">
            <a:solidFill>
              <a:srgbClr val="9c98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4"/>
          <a:stretch/>
        </p:blipFill>
        <p:spPr>
          <a:xfrm>
            <a:off x="635040" y="5816520"/>
            <a:ext cx="2781360" cy="33012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5"/>
          <a:stretch/>
        </p:blipFill>
        <p:spPr>
          <a:xfrm>
            <a:off x="2133720" y="6603840"/>
            <a:ext cx="5879880" cy="43200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 flipH="1">
            <a:off x="5067360" y="3125880"/>
            <a:ext cx="690480" cy="277560"/>
          </a:xfrm>
          <a:prstGeom prst="line">
            <a:avLst/>
          </a:prstGeom>
          <a:ln w="50760">
            <a:solidFill>
              <a:srgbClr val="020201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6215040" y="3213000"/>
            <a:ext cx="846000" cy="773280"/>
          </a:xfrm>
          <a:prstGeom prst="line">
            <a:avLst/>
          </a:prstGeom>
          <a:ln w="50760">
            <a:solidFill>
              <a:srgbClr val="020201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7302240" y="4157640"/>
            <a:ext cx="258840" cy="554040"/>
          </a:xfrm>
          <a:prstGeom prst="line">
            <a:avLst/>
          </a:prstGeom>
          <a:ln w="50760">
            <a:solidFill>
              <a:srgbClr val="020201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6"/>
          <a:stretch/>
        </p:blipFill>
        <p:spPr>
          <a:xfrm>
            <a:off x="635040" y="4610160"/>
            <a:ext cx="5245200" cy="33012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7"/>
          <a:stretch/>
        </p:blipFill>
        <p:spPr>
          <a:xfrm>
            <a:off x="635040" y="5168880"/>
            <a:ext cx="8800920" cy="34308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5708160" y="2577960"/>
            <a:ext cx="229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714800" y="4013280"/>
            <a:ext cx="229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279840" y="4013280"/>
            <a:ext cx="229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藤原 俊朗</cp:lastModifiedBy>
  <dcterms:modified xsi:type="dcterms:W3CDTF">2004-06-16T05:48:06Z</dcterms:modified>
  <cp:revision>1</cp:revision>
  <dc:subject/>
  <dc:title>Synchronised Similar Triangles for Three Body Orbit with Zero Angular Momentum</dc:title>
</cp:coreProperties>
</file>